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2.wmf" ContentType="image/x-wmf"/>
  <Override PartName="/ppt/media/image23.jpeg" ContentType="image/jpeg"/>
  <Override PartName="/ppt/media/image16.png" ContentType="image/png"/>
  <Override PartName="/ppt/media/image15.png" ContentType="image/png"/>
  <Override PartName="/ppt/media/image3.png" ContentType="image/png"/>
  <Override PartName="/ppt/media/image17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D785-16E6-4D16-B6B2-0C26CC318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A182-BCFF-4FDF-8175-0FA0423328F5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pulmonary vessels should not be seen beyond the middle 1/3 of l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803F-E80A-4259-A273-74D6DBEF1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5CF0-A573-40C3-AF0E-ADDE527E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F4AF-08E0-45E4-A27B-C59B30A3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7DD5-407A-4FA6-8203-B27D1C3B5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FC29-9700-4046-ACD3-363C1A34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58CA-918F-4F31-AF4A-9A687238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1EE9-E995-47CB-97C4-773B2003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12E1-49DD-470E-9434-30E15A87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3523-FF8D-47F9-9CB5-42BD7120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F0C5-F309-4E9C-8912-91FE7CFE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5FFA-B6EF-4D57-9056-45562550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C481-0F40-49F7-A0F0-4D6839FA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E2EC-D1E5-478A-A1ED-1F3814D3228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medicine.com/cgi-bin/foxweb.exe/makezoom@/em/makezoom?picture=%5Cwebsites%5Cemedicine%5Cemerg%5Cimages%5CLarge%5C431597boot.jpg&amp;template=izoom2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agnosis and Early Management of the Infant with Suspected Congenital Heart Dise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r9a30ac101"/>
          <p:cNvPicPr/>
          <p:nvPr/>
        </p:nvPicPr>
        <p:blipFill>
          <a:blip r:embed="rId1"/>
          <a:stretch/>
        </p:blipFill>
        <p:spPr>
          <a:xfrm>
            <a:off x="228600" y="152280"/>
            <a:ext cx="891540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742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pecific Heart Disease Abnormalit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yanotic With Decreased Pulmonary Blood Flow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etrology of Fallo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bsteins Anomal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ricuspid Atresia with PA or P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ulmonary atresia with intact septu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ritical pulmonic sten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PH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Right Sided Obstructive Lesion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yan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 respiratory distres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rmal pulses and perfus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ngle second heart soun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urmu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derate to marked hypoxem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XR: normal to large sized heart, decreased pulmonary blood flow (PBF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etralogy of Fallo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7516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etrology of Fallo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25296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3252960" y="252576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Picture 5" descr="Click to see larger pic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198108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bstein’s Anomal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Picture 5" descr="ebsteinsdiagram"/>
          <p:cNvPicPr/>
          <p:nvPr/>
        </p:nvPicPr>
        <p:blipFill>
          <a:blip r:embed="rId1"/>
          <a:stretch/>
        </p:blipFill>
        <p:spPr>
          <a:xfrm>
            <a:off x="152280" y="1752480"/>
            <a:ext cx="89917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bstein’s Anomal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4" name="Picture 3" descr="ebsteincxr2sss"/>
          <p:cNvPicPr/>
          <p:nvPr/>
        </p:nvPicPr>
        <p:blipFill>
          <a:blip r:embed="rId1"/>
          <a:stretch/>
        </p:blipFill>
        <p:spPr>
          <a:xfrm>
            <a:off x="2057400" y="1752480"/>
            <a:ext cx="49831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icuspid Atresia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2286000" y="19051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troduc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Congenital heart disease occurs in 1% of live-born infant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Almost 1/2 of all cases of congenital heart disease are diagnosed during the 1st week of life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The most frequently occuring anomalies seen during the 1st week are: PDA, D-transposition of the great arteries, hypoplastic left heart syndrome, TOF, and pulmonary atresia 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icuspid Atresia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2057400" y="1828800"/>
          <a:ext cx="5181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828800"/>
                    <a:ext cx="5181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KG : </a:t>
            </a: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QRS axi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1" name="Picture 3" descr="EKG axis diagram"/>
          <p:cNvPicPr/>
          <p:nvPr/>
        </p:nvPicPr>
        <p:blipFill>
          <a:blip r:embed="rId1"/>
          <a:stretch/>
        </p:blipFill>
        <p:spPr>
          <a:xfrm>
            <a:off x="1371600" y="1447920"/>
            <a:ext cx="6553080" cy="29718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914400" y="4495680"/>
            <a:ext cx="7315200" cy="30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ricuspid atresia with PS or PA  with intact ventricular septum: superior  (0— -90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ritical PS or PA : 0 to 90 degree quadra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OF and TOF with PA:  90-180 degree quadra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yanotic With Increased Pulmonary Blood Flow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-Transposition of the great vessel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runcus arterios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tal anomalous pulmonary venous return, above diaphrag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ngle ventric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ndocardial cushion defec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adequate Mixing Lesion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yan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ild tachypne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rmal puls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ngle heart soun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urmu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BG: marked hypoxemia,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acid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XR: cardiomegaly, normal or increased PBF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ansposition of the Great Arter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440532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d - Transposition of the Great Vessel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1" name="Picture 3" descr="tgadcxr1sss"/>
          <p:cNvPicPr/>
          <p:nvPr/>
        </p:nvPicPr>
        <p:blipFill>
          <a:blip r:embed="rId1"/>
          <a:stretch/>
        </p:blipFill>
        <p:spPr>
          <a:xfrm>
            <a:off x="2133720" y="2043000"/>
            <a:ext cx="513540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uncus Arteriosu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457056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uncus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rteriosu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5" name="Picture 3" descr="CXR truncus"/>
          <p:cNvPicPr/>
          <p:nvPr/>
        </p:nvPicPr>
        <p:blipFill>
          <a:blip r:embed="rId1"/>
          <a:stretch/>
        </p:blipFill>
        <p:spPr>
          <a:xfrm>
            <a:off x="1981080" y="1828800"/>
            <a:ext cx="5388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sions with Poor Gas Exchang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yan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rked tachypne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air perfusion, normal puls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y or may not have a single heart soun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y or may not have a murmu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XR: normal heart size, pulmonary conges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otal Anomalous Pulmonary Venous Retur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dications for Fetal Echocardiograph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otal Anomalous Pulmonary Venous Retur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685800" y="2322360"/>
          <a:ext cx="7772400" cy="343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22360"/>
                    <a:ext cx="7772400" cy="34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ft Sided Obstructive Lesion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arctation of aorta, interrupted aortic arch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ypoplastic left heart syndrom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ortic sten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itral sten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tal anomalous pulmonary venous return, below diaphrag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ft Sided Obstructive Lesion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rey or ashen col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chypne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or perfus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creased pulses/differential puls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ngle second heart soun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urmur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gallop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epatomegal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BG:  metabolic acid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XR: cardiomegaly with increased PBF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oarctation of the Aorta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87548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Hypoplastic Left Heart Syndrom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Hypoplastic Left Heart Syndrom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5" name="Picture 3" descr="CXR HLHS"/>
          <p:cNvPicPr/>
          <p:nvPr/>
        </p:nvPicPr>
        <p:blipFill>
          <a:blip r:embed="rId1"/>
          <a:stretch/>
        </p:blipFill>
        <p:spPr>
          <a:xfrm>
            <a:off x="1752480" y="1981080"/>
            <a:ext cx="563904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ortic Stenosi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7" name="Picture 3" descr="ascriticalcxrsss"/>
          <p:cNvPicPr/>
          <p:nvPr/>
        </p:nvPicPr>
        <p:blipFill>
          <a:blip r:embed="rId1"/>
          <a:stretch/>
        </p:blipFill>
        <p:spPr>
          <a:xfrm>
            <a:off x="2057400" y="1828800"/>
            <a:ext cx="49831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cyanotic With Increased Pulmonary Blood Flow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S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S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D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ndocardial cushion defec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Ventricular Septal Defec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570560" cy="4570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Ventricular Septal Defec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5" name="Picture 3" descr="vsdcxrchfsss"/>
          <p:cNvPicPr/>
          <p:nvPr/>
        </p:nvPicPr>
        <p:blipFill>
          <a:blip r:embed="rId1"/>
          <a:stretch/>
        </p:blipFill>
        <p:spPr>
          <a:xfrm>
            <a:off x="2057400" y="1676520"/>
            <a:ext cx="53341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ternal Risk Factors Associated With Congenital Heart Dise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genital heart diseas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ardiac teratogen expos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Lithium 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Amphetamine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Alcohol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Anticonvulsants:  </a:t>
            </a:r>
            <a:r>
              <a:rPr b="0" i="1" lang="en-US" sz="3000" spc="-1" strike="noStrike">
                <a:solidFill>
                  <a:srgbClr val="ffff00"/>
                </a:solidFill>
                <a:latin typeface="Times New Roman"/>
              </a:rPr>
              <a:t>phenytoin, valproic acid, carbamazepine, and trimethadione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Isotretinoin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trial Septal Defec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81788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trioventricular Canal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4952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tent Ductus Arteriosu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475128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itial Stabiliza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BC’s: Volume resuscitation, ionotorpic support, correction of metabolic acidosis, r/o sep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ubate if needed, titrate Fi02 to keep Sp02 80%-85% to prevent pulmonary overcircul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lacement of umbilical lin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fants who present in shock within the first 3 weeks of life, consider ductal dependent les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se of PGE1 (0.025 to 0.1mcg/kg/mi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tabilization for Transpor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liable vascular acces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ubation if on PGE1, OG place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xygen delivery, Sp0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nitor HR, tissue perfusion, blood pressure, and acid-base stat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alcium and glucose status (increased risk for DiGeorge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rostaglandin E1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ailure to respond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diagnosis incorrect, older infant with unresponsive ductus, ductus absent, obstructed pulmonary venous retur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nical deterioration after PGE1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obstructed blood flow out of pulmonary veins or left atrium, HLHS with restrictive FO, TGA with intact ventricular septum and restrictive FO, obstructed TAPVR, mitral atresia with restrictive F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GE 1 - </a:t>
            </a: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Side Effect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mmo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:  Apnea, fever, leukocytosis, cutaneous flushing, and bradycardia.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ncommo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:  seizures, hypoventilation, hypotension, tachycardia, cardiac arrest, sepsis, diarrhea, DIC, fev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ar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:  urticaria, bronchospasm, hemorrhage*, hypoglycemia, and hypocalcem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*inhibits platelet aggreg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aternal Metabolic Disorders or Infec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abetes mellit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KU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yperthyroidis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upus, collagen vascular diseas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ubella, CMV, Coxsackie, Parvovir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500" spc="-1" strike="noStrike">
                <a:solidFill>
                  <a:srgbClr val="ffff00"/>
                </a:solidFill>
                <a:latin typeface="Times New Roman"/>
              </a:rPr>
              <a:t>Fetal Risk Factors Associated With Congenital Heart Disease</a:t>
            </a:r>
            <a:endParaRPr b="0" lang="en-US" sz="4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risomies, Turner’s syndrome, abnormal karyotyp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genital malformations:  duodenal atresia, TEF, omphalocele, diaphragmatic hernia, renal dysgenesis, and hydrocephal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etal arrhythmi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UG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nimmune hydrop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?2 vessel cor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yanosi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Etiology: CV, pulmonary, airway obstruction, neurological, neuromuscular, or hematological (methemoglobinemia or polycythemia)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Infants can appear cyanotic when the deoxygenated Hgb concentration is at least 3g/dL; it is not related to the percent saturated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2 babies with sats of 80%: one with a hgb of 20g/dL and 4g/dL of desaturated hgb will be cyanotic, but an anemic infant with 10g/dL with 2g/dL deoxygenated hgb will not be cyanotic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valua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BC’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E: murmur, pulses, precordium, respiratory status, HSM, color, capillary refil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 ext BPs: if SBP &gt;10mmHg in right hand compared to lower ext, concerning for arch anomaly (though if normal may not rule it out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e/post ductal saturations:  if see a difference &gt;5%, concerning for PPHN or left heart abnormalit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valuation (Continued)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yperoxia test: baseline pre-ductal ABG when infant in room air, then repeat on 100% FiO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ason for ABG and not just sats: with a saturation of 100%, you can have a PaO2 of 80 or 300; very differ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XR: cardiomegaly; normal, increased, or decreased pulmonary vascular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K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ch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20:59:45Z</dcterms:created>
  <dc:creator>Bradley Bennett</dc:creator>
  <dc:description/>
  <dc:language>en-US</dc:language>
  <cp:lastModifiedBy>Health Services Department</cp:lastModifiedBy>
  <dcterms:modified xsi:type="dcterms:W3CDTF">2010-05-25T00:02:19Z</dcterms:modified>
  <cp:revision>10</cp:revision>
  <dc:subject/>
  <dc:title>Early Management of the Infant with Suspected Congenital Heart Disease</dc:title>
</cp:coreProperties>
</file>